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whoosh.wav" ContentType="audio/x-wav"/>
  <Override PartName="/ppt/media/image3.png" ContentType="image/png"/>
  <Override PartName="/ppt/media/image4.wmf" ContentType="image/x-wmf"/>
  <Override PartName="/ppt/media/image5.gif" ContentType="image/gi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998C-3F04-4DC1-8D5F-B3183B451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7DEA-2BCB-460A-82E3-9BA0B9DCD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70AD-1872-4F72-A48F-5BEC458E0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66FA-E5DF-43AB-A169-D13D78965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85FE6-380D-4E10-A083-80B61C7A0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8FD98-BCEC-4591-8A11-3DD3C109D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47703-41AC-4E53-B006-7A1752000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825B2-EF66-4E7F-BA10-D7179E1E6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41C49-C865-42F4-B0F1-47C471414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D4365-2782-4827-AA6D-B6D6F4923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F0944-75F4-47E3-8B51-4990DDAF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CF7B-B668-4454-BD63-F2E07E507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F0659-785F-41AC-B3A3-14F8D641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BE120-0485-4B02-9D7E-7FDA306A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CF041-57A9-4041-8153-21F865B61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52E3A-C552-4E9B-9B47-26B1A92F2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B7DF9-CE39-43D0-8323-E9A5B7299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7284-8664-40BF-B0E1-90C25D1AA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614E-9C30-46E4-9B32-2E57F6F98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C6F1-5819-4252-9D88-D37A5777D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9F24-A7EA-4D85-A701-BB0A4EA94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371F-C05F-4FC0-B4B4-72AB97B5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65CC-7192-4787-BD8C-18A9F528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E2E4-055D-48DB-8BF6-51A21AC6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F47B6-3080-4418-AFD4-029179594F2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5D68-E760-4008-8E65-ABBB078BAE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27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Skills and techniques</a:t>
            </a: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Principles of effective practi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5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Lesson 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Monday 5</a:t>
            </a:r>
            <a:r>
              <a:rPr b="0" lang="en-GB" sz="36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 Octob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raining Programm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at do you need to consider when planning and carrying out a programme of work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Principles of effective practi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o improve you must consider the following when practis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Clear goal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– know what you want to improve, be SMA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Work / rest ratio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– High quality practise over a short time is b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Progression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– Challenging practices that get gradually more diffic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Motivation / concentration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– have the desire to succeed and be fully focused during trai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Feedback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– must be POSITIVE, accurate and given quickly. Can be intrinsic or extrinsi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Feedbac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nformation you receive about your perform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You use it to improve perform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t can highlight your strengths and weakn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3492360" y="4076640"/>
            <a:ext cx="315936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Types of feedbac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nternal (intrinsi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How the performance felt / Did the action feel r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External (extrinsi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nformation you get from observation schedules / video analysis / teacher or class m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6372360" y="5157720"/>
            <a:ext cx="1800000" cy="115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Feedbac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t must be EFFECTIV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ccurate and prec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Given to the performer straight after the perform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Must focus on what you did well and how further improvements can be m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Negative feedback is not effective, must be POSI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Feedbac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Good/effective feedback helps you to get better!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708360" y="3500280"/>
            <a:ext cx="1655640" cy="208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Home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ue date: Thursday 8</a:t>
            </a:r>
            <a:r>
              <a:rPr b="1" lang="en-GB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Octo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scribe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on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ethod you used to collect data about your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ol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erforman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4 mark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w describe one method you used to collect data about a specific skill in your perform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3 mark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xplain why both methods you used to collect data were appropri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5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4 marks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scribe the strengths and weakness in your perform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4 mark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5T10:02:57Z</dcterms:created>
  <dc:creator>FlemingC1</dc:creator>
  <dc:description/>
  <dc:language>en-US</dc:language>
  <cp:lastModifiedBy>FlemingC1</cp:lastModifiedBy>
  <dcterms:modified xsi:type="dcterms:W3CDTF">2009-10-05T10:28:05Z</dcterms:modified>
  <cp:revision>2</cp:revision>
  <dc:subject/>
  <dc:title>Skills and techniques  Principles of effective practice</dc:title>
</cp:coreProperties>
</file>